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CB8-5A9C-4526-8112-28F6E124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D95-6ACB-481E-98B4-568AFBB9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080-D87E-4CE7-92CE-5EDA12E7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504-3AC4-4AB3-A5A3-0F13F599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F0E-BFAB-4FBD-A770-B7363B02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CBA-2B9A-4ACD-87A1-937D6BF6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671-0C8E-4B6D-95A8-43E4B552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9FE-C7EB-4B98-A427-C5EDB1F0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E0F-A92B-4BFE-A39D-C94BF293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DCC-9E11-48AA-B37E-B44F7F48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18F-C25B-47AE-B392-F3E68D47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3C2-217D-43A7-A4AA-D3EA1FB6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316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68280" indent="-252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76240" indent="-2523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84560" indent="-252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284560" indent="-252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284560" indent="-252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062840"/>
            <a:ext cx="237024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062840"/>
            <a:ext cx="321624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062840"/>
            <a:ext cx="237024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F66D-85C5-47AE-9B54-17A130C09523}" type="slidenum"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figure"/>
          <p:cNvPicPr/>
          <p:nvPr/>
        </p:nvPicPr>
        <p:blipFill>
          <a:blip r:embed="rId1"/>
          <a:stretch/>
        </p:blipFill>
        <p:spPr>
          <a:xfrm>
            <a:off x="0" y="-2438280"/>
            <a:ext cx="10159920" cy="10058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07840" y="6244920"/>
            <a:ext cx="8451720" cy="1374840"/>
          </a:xfrm>
          <a:prstGeom prst="rect">
            <a:avLst/>
          </a:prstGeom>
          <a:noFill/>
          <a:ln w="0">
            <a:noFill/>
          </a:ln>
        </p:spPr>
        <p:txBody>
          <a:bodyPr lIns="101520" rIns="0" tIns="50760" bIns="507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roduction to Figurativ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Language: Symbols &amp; Metaph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ry been so hungry you can eat one of the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317953327_662008b451.jpg"/>
          <p:cNvPicPr/>
          <p:nvPr/>
        </p:nvPicPr>
        <p:blipFill>
          <a:blip r:embed="rId1"/>
          <a:stretch/>
        </p:blipFill>
        <p:spPr>
          <a:xfrm>
            <a:off x="0" y="1886040"/>
            <a:ext cx="101599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horse . . ., I mean, of course not. </a:t>
            </a:r>
            <a:r>
              <a:rPr b="0" lang="ja-JP" sz="2800" spc="-1" strike="noStrike">
                <a:solidFill>
                  <a:srgbClr val="002060"/>
                </a:solidFill>
                <a:latin typeface="Calibri"/>
                <a:ea typeface="MS PGothic"/>
              </a:rPr>
              <a:t>“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  <a:ea typeface="MS PGothic"/>
              </a:rPr>
              <a:t>I am so hungry I could eat a horse</a:t>
            </a:r>
            <a:r>
              <a:rPr b="0" lang="ja-JP" sz="2800" spc="-1" strike="noStrike">
                <a:solidFill>
                  <a:srgbClr val="002060"/>
                </a:solidFill>
                <a:latin typeface="Calibri"/>
                <a:ea typeface="MS PGothic"/>
              </a:rPr>
              <a:t>”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  <a:ea typeface="MS PGothic"/>
              </a:rPr>
              <a:t>, is a figure of speech or metaph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7960" y="1777680"/>
            <a:ext cx="9144000" cy="5613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aphors or figures of speech are a form of symbol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are images, words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r phras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represent something or some meaning other than just themselves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 figurative or metaphorical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aning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am very hungry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literal mean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is a meal for a lion –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literall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5680" y="2133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horse.jpg"/>
          <p:cNvPicPr/>
          <p:nvPr/>
        </p:nvPicPr>
        <p:blipFill>
          <a:blip r:embed="rId1"/>
          <a:stretch/>
        </p:blipFill>
        <p:spPr>
          <a:xfrm>
            <a:off x="0" y="1600200"/>
            <a:ext cx="1015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MS PGothic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My dad always catches me right before I do something.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MS P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ja-JP" sz="3300" spc="-1" strike="noStrike">
                <a:solidFill>
                  <a:srgbClr val="000000"/>
                </a:solidFill>
                <a:latin typeface="Calibri"/>
                <a:ea typeface="MS PGothic"/>
              </a:rPr>
              <a:t>’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MS PGothic"/>
              </a:rPr>
              <a:t>s as if he has </a:t>
            </a:r>
            <a:r>
              <a:rPr b="1" lang="en-US" sz="3300" spc="-1" strike="noStrike">
                <a:solidFill>
                  <a:srgbClr val="ff0000"/>
                </a:solidFill>
                <a:latin typeface="Calibri"/>
                <a:ea typeface="MS PGothic"/>
              </a:rPr>
              <a:t>eyes in the back of his head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MS PGothic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Calibri"/>
              </a:rPr>
              <a:t>Figurative or metaphorical 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eaning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y dad is very observant or aware of everything I do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300" spc="-1" strike="noStrike">
                <a:solidFill>
                  <a:srgbClr val="002060"/>
                </a:solidFill>
                <a:latin typeface="Calibri"/>
              </a:rPr>
              <a:t>Literal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meaning: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ext slide---&gt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ja-JP" sz="4400" spc="-1" strike="noStrike">
                <a:solidFill>
                  <a:srgbClr val="000000"/>
                </a:solidFill>
                <a:latin typeface="Calibri"/>
                <a:ea typeface="MS PGothic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Eyes in the back of his head.</a:t>
            </a:r>
            <a:r>
              <a:rPr b="1" lang="ja-JP" sz="4400" spc="-1" strike="noStrike">
                <a:solidFill>
                  <a:srgbClr val="000000"/>
                </a:solidFill>
                <a:latin typeface="Calibri"/>
                <a:ea typeface="MS PGothic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 –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MS PGothic"/>
              </a:rPr>
              <a:t>Literall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MS PGothic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Content Placeholder 3" descr="eyes in back.jpg"/>
          <p:cNvPicPr/>
          <p:nvPr/>
        </p:nvPicPr>
        <p:blipFill>
          <a:blip r:embed="rId1"/>
          <a:stretch/>
        </p:blipFill>
        <p:spPr>
          <a:xfrm>
            <a:off x="0" y="1862280"/>
            <a:ext cx="1015992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507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300" spc="-1" strike="noStrike">
                <a:solidFill>
                  <a:srgbClr val="002060"/>
                </a:solidFill>
                <a:latin typeface="Arial"/>
              </a:rPr>
              <a:t>"A wave of terror washed over him."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101599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507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300" spc="-1" strike="noStrike">
                <a:solidFill>
                  <a:srgbClr val="002060"/>
                </a:solidFill>
                <a:latin typeface="Arial"/>
              </a:rPr>
              <a:t>Metaphor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02680" y="1295280"/>
            <a:ext cx="966492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metaphor – when you use words or images that most people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mili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or k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terror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 actually or literally a wave, but a wave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MS PGothic"/>
              </a:rPr>
              <a:t>a good way of describing the feel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f terror because most people can imagine what a big wave hitting them would feel li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 wave of terror hitting 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is scarier than ‘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drop of terror hitting 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Are you </a:t>
            </a:r>
            <a:r>
              <a:rPr b="1" lang="en-US" sz="4900" spc="-1" strike="noStrike">
                <a:solidFill>
                  <a:srgbClr val="ff0000"/>
                </a:solidFill>
                <a:latin typeface="Calibri"/>
              </a:rPr>
              <a:t>terrified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250605545_16b13450da.jpg"/>
          <p:cNvPicPr/>
          <p:nvPr/>
        </p:nvPicPr>
        <p:blipFill>
          <a:blip r:embed="rId1"/>
          <a:stretch/>
        </p:blipFill>
        <p:spPr>
          <a:xfrm>
            <a:off x="0" y="1600200"/>
            <a:ext cx="1015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1520" indent="-371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photos from Creative comm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 on beach – S. Parish on Goog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xican flag – kalavinka on Flick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Atlas –Olga Diez on Flick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th  of life by Mara-earth light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rple horse  by gui.tava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on eats horse – Luke Robinson on Goog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yes in head- Random Places on Flick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op - adwri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ny metaphors from: http://www.mikekerr.com/humour-resources/free-articles/2222/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werpoint created by: Joe Tedesc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414080" cy="7620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02880" y="-360"/>
            <a:ext cx="815364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2500"/>
            </a:br>
            <a:br>
              <a:rPr sz="25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e Texas flag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symbol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for ?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e star in the flag i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a symbol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for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lag is a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ymb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our state – Texa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ar is a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ymb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one st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84280" y="2590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Symbo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a type of Figurative Languag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Figurative language o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tand for something o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presen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th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-98280"/>
            <a:ext cx="11785680" cy="7718400"/>
          </a:xfrm>
          <a:prstGeom prst="rect">
            <a:avLst/>
          </a:prstGeom>
          <a:ln w="0">
            <a:noFill/>
          </a:ln>
        </p:spPr>
      </p:pic>
      <p:grpSp>
        <p:nvGrpSpPr>
          <p:cNvPr id="50" name="Rectangle 4"/>
          <p:cNvGrpSpPr/>
          <p:nvPr/>
        </p:nvGrpSpPr>
        <p:grpSpPr>
          <a:xfrm>
            <a:off x="4925880" y="79200"/>
            <a:ext cx="5388120" cy="2498760"/>
            <a:chOff x="4925880" y="79200"/>
            <a:chExt cx="5388120" cy="2498760"/>
          </a:xfrm>
        </p:grpSpPr>
        <p:pic>
          <p:nvPicPr>
            <p:cNvPr id="51" name="Rectangle 4" descr=""/>
            <p:cNvPicPr/>
            <p:nvPr/>
          </p:nvPicPr>
          <p:blipFill>
            <a:blip r:embed="rId2"/>
            <a:stretch/>
          </p:blipFill>
          <p:spPr>
            <a:xfrm>
              <a:off x="4925880" y="79200"/>
              <a:ext cx="538812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079960" y="228600"/>
              <a:ext cx="5079960" cy="21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he skull and cross bones </a:t>
              </a: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symbolizes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what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Answer: Death, Caution or Danger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igurative Languag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ymbol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 or describ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thing deep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are not the face or surface value, but the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eeper mean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t lit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5" descr="466468766_f2127dc660.jpg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grpSp>
        <p:nvGrpSpPr>
          <p:cNvPr id="57" name="TextBox 5"/>
          <p:cNvGrpSpPr/>
          <p:nvPr/>
        </p:nvGrpSpPr>
        <p:grpSpPr>
          <a:xfrm>
            <a:off x="-152280" y="4114800"/>
            <a:ext cx="8918280" cy="1384200"/>
            <a:chOff x="-152280" y="4114800"/>
            <a:chExt cx="8918280" cy="1384200"/>
          </a:xfrm>
        </p:grpSpPr>
        <p:pic>
          <p:nvPicPr>
            <p:cNvPr id="58" name="TextBox 5" descr=""/>
            <p:cNvPicPr/>
            <p:nvPr/>
          </p:nvPicPr>
          <p:blipFill>
            <a:blip r:embed="rId2"/>
            <a:stretch/>
          </p:blipFill>
          <p:spPr>
            <a:xfrm>
              <a:off x="-152280" y="4114800"/>
              <a:ext cx="891828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4267080"/>
              <a:ext cx="8610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Arial"/>
                </a:rPr>
                <a:t>This statue 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symbolizes o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stands for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2060"/>
                  </a:solidFill>
                  <a:latin typeface="Arial"/>
                </a:rPr>
                <a:t>what meaning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sible Answers: Carry a lot of burden or responsibility; Suff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12880" y="2209320"/>
            <a:ext cx="9144000" cy="4876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101520" rIns="101520" tIns="50760" bIns="50760" anchor="t">
            <a:normAutofit/>
          </a:bodyPr>
          <a:p>
            <a:pPr marL="379440" indent="-379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best or most effective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ymbols are images or meanings that are familiar to us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ymbols are used to </a:t>
            </a:r>
            <a:r>
              <a:rPr b="1" lang="en-US" sz="3300" spc="-1" strike="noStrike">
                <a:solidFill>
                  <a:srgbClr val="002060"/>
                </a:solidFill>
                <a:latin typeface="Arial"/>
              </a:rPr>
              <a:t>try to help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eader or listener understand by giving them an image or mental picture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200" y="304560"/>
            <a:ext cx="101343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ets us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familiar images or words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ke ‘a path’.  What does ‘a path’ symbolize in literature/stor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3688840647_cbf1f0d481.jpg"/>
          <p:cNvPicPr/>
          <p:nvPr/>
        </p:nvPicPr>
        <p:blipFill>
          <a:blip r:embed="rId1"/>
          <a:stretch/>
        </p:blipFill>
        <p:spPr>
          <a:xfrm>
            <a:off x="0" y="1833480"/>
            <a:ext cx="101599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5076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actice: What do these symbols in literature mean?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9000" y="182880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Light' in literature is a symbol or metaphor f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od, wisdom, purity, virt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A path or road' in literature is a symbol or metaphor fo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w you live your life.  Your path in lif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ose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iding something, f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tdscj</cp:lastModifiedBy>
  <dcterms:modified xsi:type="dcterms:W3CDTF">2012-03-02T06:01:4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FLfhxaxKzSG93MEJs9EERovEAEJH1fOIjs82gRLv-JQ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PreviousRevisionId">
    <vt:lpwstr>17384023847688736095</vt:lpwstr>
  </property>
  <property fmtid="{D5CDD505-2E9C-101B-9397-08002B2CF9AE}" pid="6" name="Google.Documents.RevisionId">
    <vt:lpwstr>17963561797374208467</vt:lpwstr>
  </property>
  <property fmtid="{D5CDD505-2E9C-101B-9397-08002B2CF9AE}" pid="7" name="Google.Documents.Tracking">
    <vt:lpwstr>true</vt:lpwstr>
  </property>
</Properties>
</file>